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AEBE-F5BB-47E1-86B7-57D895220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m shields the L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4036-80FD-479A-A09E-4091ADCAA5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A98-C1CF-4002-AA59-C5055DAE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84C-4085-42CE-992C-6DD75531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129-FA30-41A1-9E9D-6BEFB843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081-221D-450C-8866-C528F79F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F8E7-0281-4CF1-97D9-684D334C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7495-1FCC-4E39-AC0D-473B09E5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CDFF-E797-40A8-9FED-40E62535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37A-8F2D-4900-84FA-2EEB931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A2E2-952C-44DF-B019-FBDBF634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4304-7FC6-4E73-8322-07AE3545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DBC3-744D-4630-BFC0-1EB71CB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2EB-F01E-4954-B903-2CB18032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C636-97B1-48D7-A2CA-46413E7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1BA-F7AF-4332-B6E5-B273D3A4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BD59-9041-467D-AE3B-DEC26B33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D47C-C6B3-4265-9BAE-01312C3F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8481-25D0-458C-A1E6-B7628BCC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91050-38EB-4817-AB16-A7C24229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1714-1D70-4A2E-AE3C-7E577B55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F821-44B6-4556-BF81-F3B6EC0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852D-E86E-449F-9168-8CCF7043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7152-35B9-4034-AA8C-59A677F7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0CC-90B8-4FED-8B0A-47B03D4F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229D-91E8-400B-B638-0FD7F12E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FB38-5105-4D35-9759-4C8FD6AF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324B-9AA3-46CA-B8E3-91A83AD4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DB5B-249A-48D8-A6F1-EA9D8F59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6650-F5F4-4CA5-97E8-056E020E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838F-8594-4333-B072-DE0A11DA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C832-BA01-4674-8B2C-DA682AA4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C030F-A814-4321-93A9-B244AB9C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26E4F-10D9-4B59-A3F5-123F5FD9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91A7-217D-4158-8F1E-F8230959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C78-37E5-43A0-B4C9-4ED682C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57C0-777B-4443-BE6C-2F8FC64B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029F0-3FCE-45F5-B761-E63D3DDC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2739-A4BD-411B-947A-307523AA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0794-FEBB-4534-BB38-831BC30A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9A2F-A587-4C9E-A2D1-746424D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87807-61E0-4535-AA74-B381727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5FFB-C5A4-4F20-A910-0BCCDADC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0A7B9-AE04-4FAA-9B23-0940FE32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51D3-245D-4391-A302-AD272209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DAD0-7A76-4652-A4ED-1F0595D3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BDC-07B9-40AC-8432-6C5D06AC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BCAAC-0778-4D8B-B4F6-782055D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CAD5-43C8-4658-96F3-C349BEB6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6FCDE-EE30-46FD-90B1-283E9AAC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84923-249C-4E3A-BA84-D6AD9FAA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D8A7-A7FC-4C64-9344-D1DE9770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761C9-6067-4A79-99EB-43C25515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769E2-6FD6-4BB7-A22A-48C9D32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2CEA-6533-4475-90BE-ED2E1C8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F56AC-8DDA-46A0-ADD0-D93CF082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3033-2BD6-464C-9B79-C773F348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D1D-555A-4259-9DC7-8C520345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D71C-AC00-46D6-83BF-8A1A4A6C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F9F-C590-4B0F-B2B2-4951C3E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772-5EF3-4E6F-BAC9-CC5A3BA4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4CA-DF90-49D8-8753-FE2ED72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EDE6-4FB7-4C37-B287-7F9BEDC9736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22D2-D77C-446E-AE04-16C0985EB6F9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CBAA-D5D3-4F3A-A49F-321C3AE512D8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5B2-B16F-4874-A1AE-C1BF6E5D0B70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F017-5ACD-4DFC-B991-7672DC89E9DD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25360" y="2127240"/>
            <a:ext cx="4425840" cy="16034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Mike Shackelford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Each perm needs to be addressed separatel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1. Theory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2. Doesn’t solv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3. DA to the perm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unterplan’s have a “status”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3 status’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Conditional – can be kicked at any time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Dispositional – multiple interpretation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f you read any theory other than dispo bad, we can kick it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f you straight turn, we’re stuck with it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Unconditional – have to go for it unless they go for T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reat as a D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ternal vs. External Net-Benefi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mpact Calc on Top if not on overview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Explain why even if the CP doesn’t solve all of the case, the net benefit outweighs what you don’t solv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ust have either an internal net benefit or an external.  The counterplan itself is not a reason to vote negativ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liding Scale Solvency Claims– we may not solve this part of the case.  However, the Net Benefit outweigh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Kick the CP?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225360" y="2127240"/>
            <a:ext cx="4425840" cy="16034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4 Categori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eory – will be covered in theory lecture tomorro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olvency Defic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A to the C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O NOT READ 5 PERMS IN A ROW AT BREAKNECK SPEED!!!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Judges need ink tim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mmon Perm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: Do Both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: Do Plan then C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: Do CP then Pla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rm: Do C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reat time trade-off – but toe the line carefull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good perm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 it have a net benefit?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pecifici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Tricky CP Text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read the abuse line very carefull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solvency deficit effectiv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n’t solve the aff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1AC card extension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2AC card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Analytic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n’t solve the net-benef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Card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Analytics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void reading an impact the 1AC already ha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an be an Add-on, or a DA to their mechanism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lso can impact turn the NB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2127240"/>
            <a:ext cx="442584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.P.O.T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ep One: Solvency Defici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Every flow starts with case extensi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Explain why this outweighs the NB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ep Two: Perm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lace at different parts of the flow so they 1) might drop, 2) have to actively organize, 3) judge ink tim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lmost always no more than tw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Perm do both, perm do cp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If they bust out the Consul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5 perms, Jimmy’s got this one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ep Three: DA to the CP (Offense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tep Four: Theor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tatu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onsult/Process/Competiti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good counterpla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 it solve the aff better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Is it competitiv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oes it solve the aff or a portion of the aff AS WELL AS a DA (net benefit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riginal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good tex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Generic C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Adjustable – 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he easiest way is to not have pre-written phrasing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n be worded to adjust to stupid plan texts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Write out the action of the plan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his excludes [insert mandates of the plan]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se Specific Counterpla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Every plank written out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Adjustable – 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451"/>
              </a:spcBef>
              <a:buClr>
                <a:srgbClr val="9998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hanges accordingly to 1AC advantage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actors that make a good competition claim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None, the best counterplans are clearly competitive by the text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However, assuming you are reading a generic CP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voids DA to…”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mall T Violation.  Accusing your own counterplan of being untopical for doing something the aff also does – game over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ternal vs. Extern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actors that make a good net benefi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iqu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fc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Doesn’t matter how awesome your net benefit is if the squo solves it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efinite Solvenc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urns the cas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25360" y="2127240"/>
            <a:ext cx="4425840" cy="16034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rinciple of Neg Strategy: Resolve the affirmative impac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ssuming the affirmative has done their job right, the squo will not be an easy world to defe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o combat this, we have counterplan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P solves 100% of the case”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“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P solves X advantage and the net benefit turns the other”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36504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20-30 seconds on wh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30 seconds on the net-benefit explanation – impact calc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05:52:03Z</dcterms:created>
  <dc:creator>Matt</dc:creator>
  <dc:description/>
  <dc:language>en-US</dc:language>
  <cp:lastModifiedBy>The Adams Family</cp:lastModifiedBy>
  <dcterms:modified xsi:type="dcterms:W3CDTF">2012-08-29T13:14:20Z</dcterms:modified>
  <cp:revision>18</cp:revision>
  <dc:subject/>
  <dc:title>Debating the CP</dc:title>
</cp:coreProperties>
</file>